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024-3646-4CE6-BCBA-F39251F6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8E9-E609-4E58-B1D1-A6B75972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405-7894-4096-8530-3D652C2E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287-60A6-4315-97F2-A8C00917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33C-16A6-4CFA-A82B-234075BB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C50-9D04-4BA1-95B3-5F9925E5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21A-A08F-424E-8599-09669222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25F-E9AE-4CC0-991B-D5EB63A5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592-0CFD-4231-9463-F1529766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E32-24A8-4F85-93D9-499BF341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DB1-3471-4ACD-9B02-156D3FEF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81D-1FBF-4979-8A5D-53682895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FB97-3FBD-463A-BC48-C1C9943E7C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086600" cy="21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ниверз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рагујевцу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акул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едицински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аука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тегрисан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академск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тудиј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изикална медицина и рехабилит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8610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рећи мод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еве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898989"/>
                </a:solidFill>
                <a:latin typeface="Calibri"/>
              </a:rPr>
              <a:t>РЕХАБИЛИТАЦИЈА  БОЛЕСНИКА</a:t>
            </a: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898989"/>
                </a:solidFill>
                <a:latin typeface="Calibri"/>
              </a:rPr>
              <a:t>СА ЛЕЗИЈОМ ПМ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оц. др Весна Грбо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Периферна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нервна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лезија- 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Оштећење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перонеалног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живц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врш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дорзалн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флексиј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стопал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прстиј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анифестуј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емогућношћ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рзалн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флексиј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егибањ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топал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стиј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емогућнос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ход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е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ог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ај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линичк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лик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висећег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стопала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Болесни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тањ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диж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топал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висок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диж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ог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ход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запе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л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пуштањ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топал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с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дируј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длог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петлов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ход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Оштећење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задњег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тибијалног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живца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врш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плантарн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флексиј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стопал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</a:rPr>
              <a:t>прстиј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анифестуј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емогућношћ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лантарн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флексиј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топал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стиј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емогућношћ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ход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стим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ог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ход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слонц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ог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јпр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слањ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ет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д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стиј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јављ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вострук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да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длог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степ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ход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ДИЈАГНОСТИКА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ЛЕЗИЈА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ПЕРИФЕРНИХ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НЕ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6477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Calibri"/>
              </a:rPr>
              <a:t>РТ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Calibri"/>
              </a:rPr>
              <a:t>ЦТ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800080"/>
                </a:solidFill>
                <a:latin typeface="Calibri"/>
              </a:rPr>
              <a:t>компјутеризована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800080"/>
                </a:solidFill>
                <a:latin typeface="Calibri"/>
              </a:rPr>
              <a:t>томографија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Calibri"/>
              </a:rPr>
              <a:t>НМР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800080"/>
                </a:solidFill>
                <a:latin typeface="Calibri"/>
              </a:rPr>
              <a:t>нуклеарна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800080"/>
                </a:solidFill>
                <a:latin typeface="Calibri"/>
              </a:rPr>
              <a:t>магнетна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800080"/>
                </a:solidFill>
                <a:latin typeface="Calibri"/>
              </a:rPr>
              <a:t>резонанца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Calibri"/>
              </a:rPr>
              <a:t>МИЈЕЛОГРАФ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Calibri"/>
              </a:rPr>
              <a:t>ЕЛЕКТРОМИОГРАФ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Calibri"/>
              </a:rPr>
              <a:t>ЛАБОРАТ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Клинички преглед моторног сист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0" y="228600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Инспек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он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н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Рефлекс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Координа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ПШТИ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ИНЦИПИ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ЕРИФЕРНИХ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ДУЗЕТ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ли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М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периферн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нер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поседују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регенер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т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ункционал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орав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трај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различито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дуг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з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п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лаговреме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екват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дикаметоз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изикал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ч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Физикална</a:t>
            </a:r>
            <a:r>
              <a:rPr b="1" lang="sr-Latn-C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терапија</a:t>
            </a:r>
            <a:r>
              <a:rPr b="1" lang="sr-Latn-CS" sz="36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задаци</a:t>
            </a:r>
            <a:r>
              <a:rPr b="1" lang="sr-Latn-C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sr-Latn-C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циље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твор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регенерациј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држ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фекто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ишић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к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ерв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регенериш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стизањ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аксималн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огућег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порав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Физикално</a:t>
            </a: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лече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ж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мпонент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с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пособља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цијен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штећењ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М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М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њ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тов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важни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едећ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ија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</a:rPr>
              <a:t>Термо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</a:rPr>
              <a:t>Електро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</a:rPr>
              <a:t>Кинезитерапија</a:t>
            </a:r>
            <a:r>
              <a:rPr b="1" lang="sr-Latn-CS" sz="2800" spc="-1" strike="noStrike">
                <a:solidFill>
                  <a:srgbClr val="cc66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ФУНКЦИОНАЛНА ПРОЦЕНА ЛЕЗИЈЕ ПМ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гистровање трофичких и циркулаторних сметњ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ализа статике (држа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питивање мишићне снаге (ММ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питивање обима покрета у зглобовима (МО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питивање сензиби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рење обима екстрем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рење дужине екстрем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ализа динамике (функционална анализ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Медицинска рехабилита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иљ према стадијуму обољења и функционалном налазу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адијум одузет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ијум опор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адијум трајних послед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тадијум одузет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дикаментозна 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ре неге: позиционирање, елевација и заштита екстремите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изикал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ТЕРМОТЕРАПИЈА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ЕЛЕКТРОТЕРАПИЈА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КИНЕЗИ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ИДРОТЕРАПИЈ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АСЕРОТЕРАПИЈ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ГНЕТО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ЛТРАЗВУЧНА ТЕРАПИЈ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НУЕЛНА МАСА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тадијум одузетости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физикал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ТЕРМО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води до хиперемије, боље оксигенације ткива, ресорпције патолошких продуката → повољни услови за регенерацију периферних не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алгетски и спазмолитички ефек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мекашава везивно тк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јчешће се примењу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лажна топлота (топла вода, компресе), пелоид, парафи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фрацрвени зраци и краткоталасна дијатерм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ПЕРИФЕРНИ НЕРВНИ 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3152"/>
                </a:solidFill>
                <a:latin typeface="Calibri"/>
              </a:rPr>
              <a:t>Кранијални нерви 12 па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3152"/>
                </a:solidFill>
                <a:latin typeface="Calibri"/>
              </a:rPr>
              <a:t>Спинални нерви 31 п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ичмени нерви настају спајањем вентралних (предњих) и дорзалних (задњих) коренова кичмене мождине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3152"/>
                </a:solidFill>
                <a:latin typeface="Calibri"/>
              </a:rPr>
              <a:t>Предњи корен </a:t>
            </a:r>
            <a:r>
              <a:rPr b="0" lang="sr-Latn-CS" sz="2400" spc="-1" strike="noStrike">
                <a:solidFill>
                  <a:srgbClr val="403152"/>
                </a:solidFill>
                <a:latin typeface="Calibri"/>
              </a:rPr>
              <a:t>(radix anterior s.motor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3152"/>
                </a:solidFill>
                <a:latin typeface="Calibri"/>
              </a:rPr>
              <a:t>     </a:t>
            </a:r>
            <a:r>
              <a:rPr b="0" lang="sr-RS" sz="2400" spc="-1" strike="noStrike">
                <a:solidFill>
                  <a:srgbClr val="403152"/>
                </a:solidFill>
                <a:latin typeface="Calibri"/>
              </a:rPr>
              <a:t>- еферетна нервна влак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3152"/>
                </a:solidFill>
                <a:latin typeface="Calibri"/>
              </a:rPr>
              <a:t>Задњи корен </a:t>
            </a:r>
            <a:r>
              <a:rPr b="0" lang="sr-Latn-CS" sz="2400" spc="-1" strike="noStrike">
                <a:solidFill>
                  <a:srgbClr val="403152"/>
                </a:solidFill>
                <a:latin typeface="Calibri"/>
              </a:rPr>
              <a:t>(radix posterior s.sensori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3152"/>
                </a:solidFill>
                <a:latin typeface="Calibri"/>
              </a:rPr>
              <a:t>      </a:t>
            </a:r>
            <a:r>
              <a:rPr b="0" lang="sr-RS" sz="2400" spc="-1" strike="noStrike">
                <a:solidFill>
                  <a:srgbClr val="403152"/>
                </a:solidFill>
                <a:latin typeface="Calibri"/>
              </a:rPr>
              <a:t>- аферетна нервна влак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3152"/>
                </a:solidFill>
                <a:latin typeface="Calibri"/>
              </a:rPr>
              <a:t>      </a:t>
            </a:r>
            <a:r>
              <a:rPr b="0" lang="sr-RS" sz="2400" spc="-1" strike="noStrike">
                <a:solidFill>
                  <a:srgbClr val="403152"/>
                </a:solidFill>
                <a:latin typeface="Calibri"/>
              </a:rPr>
              <a:t>-</a:t>
            </a:r>
            <a:r>
              <a:rPr b="0" lang="sr-Latn-CS" sz="2400" spc="-1" strike="noStrike">
                <a:solidFill>
                  <a:srgbClr val="403152"/>
                </a:solidFill>
                <a:latin typeface="Calibri"/>
              </a:rPr>
              <a:t>ganlion spi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4030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адијум одузетост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физикална терапи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електро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табилна галванизација- доводи до вазодилатације, аналгетски ефекат, позитиван трофички ефекат и на процес регенерације нер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идрогалванске купке- позитиван ефекат галванске струје и хидротерап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лектрофореза лекова- вазодилататори, аналгетици, кортикостероиди, Б витам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ДС-аналгетски, вазодилататорни ефек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2DC5-07AC-4FC8-8DA2-ECFE5535AAB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адијум одузетост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физикална терапија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-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споненцијалне струј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воде до селективног дражења одузетих 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ајање импулса се подешава у зависности од степена периферне одузет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хника- монополарна и бипола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5 серија по 10 контра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 постизања оцене 3 прем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М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HPIM0218"/>
          <p:cNvPicPr/>
          <p:nvPr/>
        </p:nvPicPr>
        <p:blipFill>
          <a:blip r:embed="rId1"/>
          <a:stretch/>
        </p:blipFill>
        <p:spPr>
          <a:xfrm>
            <a:off x="5181480" y="4648320"/>
            <a:ext cx="3124440" cy="1985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PIM0226"/>
          <p:cNvPicPr/>
          <p:nvPr/>
        </p:nvPicPr>
        <p:blipFill>
          <a:blip r:embed="rId2"/>
          <a:stretch/>
        </p:blipFill>
        <p:spPr>
          <a:xfrm>
            <a:off x="990720" y="4648320"/>
            <a:ext cx="373356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sr-Latn-CS" sz="3200" spc="-1" strike="noStrike">
                <a:solidFill>
                  <a:srgbClr val="ff0000"/>
                </a:solidFill>
                <a:latin typeface="Calibri"/>
              </a:rPr>
              <a:t>anuelni mišićni test (MMT) za procenu funkcije miši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cen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"5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0% mišićne snage ili funkcij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ocen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"4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75% mišićne snage ili funkcij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ocen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“3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50% mišićne snage ili funkcij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ocen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"2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25% mišićne snage ili funkcij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ocen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"1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% mišićne snage ili funkcij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ocen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"0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0% mišićne snage ili funkcij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ena "5"   - očuvana funkcija mišić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ena 1, 2, 3, 4   - parez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ili delimič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mišić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snag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ili funkcij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ena "0" -  paraliz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ili potpu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oduzetost mišićne funkci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дијум одузетост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изикална терапиј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КТ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рема ММТ</a:t>
            </a:r>
            <a:r>
              <a:rPr b="1" lang="sr-RS" sz="2800" spc="-1" strike="noStrike">
                <a:solidFill>
                  <a:srgbClr val="ff0000"/>
                </a:solidFill>
                <a:latin typeface="Calibri"/>
              </a:rPr>
              <a:t>-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сив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ежбе:0,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помогнут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ежбе: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жбе: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пор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ежбе: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СТАДИЈУМ ОДУЗЕТ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ИДРОТЕРАП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дејство се заснива на темичком, мехничком и хемијском дејству, као и позитивном психолошком ефек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АСЕРОТЕРАП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код лезије периферних нерава користи се биостимулативни ласер: биостимулација ћелија, аналгезија и антинфаламаторно деј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акође убрзава и регенерацију нар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СТАДИЈУМ ОДУЗЕТ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АГНЕТО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гетски ефекат путем хиперполаризације ћелијске мембране, повећаном продукцијом ендорфина и нормализацијом циркулације крви и лимфе и пх крви, поспешује регенерацију периферних нерава и спречава развој трофичких улку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ТРАЗВУЧНА 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циљу смањења количине ожиљног ткива у оперативном подручју након оп лечења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АНУЕЛНА МАСАЖ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аналгетско и седативно дејство, доводи до побољшања локалног метабол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ТАДИЈУМ ОПОРА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ТХ У ЦИЉ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моторне реедук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сензорне реедук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ОТОРНА РЕЕДУКАЦИЈ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тивне веж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тивне вежбе са отпором по принципу прогресивног оптерећења по  Де Лорм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епетитивних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ксимум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ређуј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дном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дељ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риј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ут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дељ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 ½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x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 2/3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x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x.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оптерећењ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ензор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едук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узет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рифер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ра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га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нзор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ервац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п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лезиј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н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медиану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греш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аста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со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кор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избеж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диану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уротмез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греш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инерв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ће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астереогнозиј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ежа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позна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ж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с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е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ставље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ављ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ак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творе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ч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кључил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ул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вежбавањ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тереогноз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веза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ч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с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говарајућ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у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ст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штић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укавиц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куша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ипав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поз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ж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с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ме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ТАДИЈУМ ТРАЈНИХ ПОСЛЕД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рши се замена и компензација функције оштећеног нер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применом ортотских помаг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обука пацијента једноруким активност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потреба ортоз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реч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о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акту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комер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тез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узет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Лезије кранијалних нерава-</a:t>
            </a: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Лезија фацијалног нер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ff0000"/>
                </a:solidFill>
                <a:latin typeface="Calibri"/>
              </a:rPr>
              <a:t>VII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кранијални нерв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мешовити нер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Моторна влакн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нервишу:мимичну мускулатур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арасимпатичк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лакн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ервиш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уз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вил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јез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љува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лезд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устатив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лакн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ећ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ку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д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2/3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зи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Његов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тор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нс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ласк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жда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бл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лаз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нтоцеребелар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га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шта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на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алопије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на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трозно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лаз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иломастоид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твор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че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ан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ервиш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ишић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и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рвна ћел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ли неурон представља структуралну и функционалну јединицу нервног сист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рифер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рв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но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дража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рифер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нтрал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рв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рну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Скелетно</a:t>
            </a: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Calibri"/>
              </a:rPr>
              <a:t>-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моторне нервне ћел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спроводе импулсе од ЦНС-а до скелетних мишића, еферентна влак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Сензитивне нервне ћел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спроводе импулсе од од периферије на ЦНС-у, аферентна влак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Вегетативне нервне ћелиј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импатикуса и парасимпатикуса проводе импулса ка глатким ћелијама и ка ЦНС-у, то су афер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тна и еферентна влак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зроци периферних ле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умори (интракранијални, интрапетрозни, екстрапетрозн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фекције (вирусне, бактеријск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еломи петрозне к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уролошка обољења (МС,ГБ, М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аскуларне лезије можданог стаб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руршке интерв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паљење средњег ух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зеб, инфекције назофарин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Белова пара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јчешће узрок настанка је прехлада, изложеност лица хладноћи (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“paralysis e frigore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ритеријуми за дијагноз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г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чет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ностра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постој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нако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нтрал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рв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остан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едње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д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обањс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а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лабост мимичне мускулатур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½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лица, асиметрија 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олесник не може да набере чело са стране оштећеног нерва, обрва је спуштена, збрисана назолабијална браз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спуштен угао ус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 покушају затварања очних капака долази до кретања булбуса ока на горе и упоље- Белов феноме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ремећај укуса, епифора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роцена функционалног стату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лектродијагностика (класична електродијагностика, хронаксиметрија, крива интензитет/време, електромиографија, електронеурографиј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цена мишићне снаге путем ММ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спитивање фацијалног израза и субјективних сметњ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цена еластичности меких ткива 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гистровање синкине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ј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дикаментоз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руш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HPIM026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PIM026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8" descr="HPIM0256"/>
          <p:cNvPicPr/>
          <p:nvPr/>
        </p:nvPicPr>
        <p:blipFill>
          <a:blip r:embed="rId1"/>
          <a:stretch/>
        </p:blipFill>
        <p:spPr>
          <a:xfrm>
            <a:off x="228600" y="2590920"/>
            <a:ext cx="4540320" cy="337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HPIM0257"/>
          <p:cNvPicPr/>
          <p:nvPr/>
        </p:nvPicPr>
        <p:blipFill>
          <a:blip r:embed="rId2"/>
          <a:stretch/>
        </p:blipFill>
        <p:spPr>
          <a:xfrm>
            <a:off x="4908600" y="2660760"/>
            <a:ext cx="42354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HPIM0260"/>
          <p:cNvPicPr/>
          <p:nvPr/>
        </p:nvPicPr>
        <p:blipFill>
          <a:blip r:embed="rId1"/>
          <a:stretch/>
        </p:blipFill>
        <p:spPr>
          <a:xfrm>
            <a:off x="228600" y="2362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PIM0258"/>
          <p:cNvPicPr/>
          <p:nvPr/>
        </p:nvPicPr>
        <p:blipFill>
          <a:blip r:embed="rId2"/>
          <a:stretch/>
        </p:blipFill>
        <p:spPr>
          <a:xfrm>
            <a:off x="4908600" y="2433600"/>
            <a:ext cx="400680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Лонгитудинална</a:t>
            </a:r>
            <a:r>
              <a:rPr b="1" lang="sr-Latn-C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галванизација</a:t>
            </a:r>
            <a:r>
              <a:rPr b="1" lang="sr-Latn-C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дуж</a:t>
            </a:r>
            <a:r>
              <a:rPr b="1" lang="sr-Latn-C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пројекције</a:t>
            </a:r>
            <a:r>
              <a:rPr b="1" lang="sr-Latn-C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нерва и ЕС експон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струја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HPIM0226"/>
          <p:cNvPicPr/>
          <p:nvPr/>
        </p:nvPicPr>
        <p:blipFill>
          <a:blip r:embed="rId1"/>
          <a:stretch/>
        </p:blipFill>
        <p:spPr>
          <a:xfrm>
            <a:off x="2324160" y="2178000"/>
            <a:ext cx="44956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Техник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лектростимулац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HPIM0213"/>
          <p:cNvPicPr/>
          <p:nvPr/>
        </p:nvPicPr>
        <p:blipFill>
          <a:blip r:embed="rId1"/>
          <a:stretch/>
        </p:blipFill>
        <p:spPr>
          <a:xfrm>
            <a:off x="696960" y="2529000"/>
            <a:ext cx="3558960" cy="2668320"/>
          </a:xfrm>
          <a:prstGeom prst="rect">
            <a:avLst/>
          </a:prstGeom>
          <a:ln w="0">
            <a:noFill/>
          </a:ln>
        </p:spPr>
      </p:pic>
      <p:pic>
        <p:nvPicPr>
          <p:cNvPr id="126" name="Content Placeholder 5" descr="HPIM0248.JPG"/>
          <p:cNvPicPr/>
          <p:nvPr/>
        </p:nvPicPr>
        <p:blipFill>
          <a:blip r:embed="rId2"/>
          <a:stretch/>
        </p:blipFill>
        <p:spPr>
          <a:xfrm>
            <a:off x="4876920" y="2590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ЕТИОЛОГИЈ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ОШТЕЋЕЊ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ПН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виру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херпе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зосте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виру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хепати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ли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виру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Интоксика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лкохол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гљен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онокс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ратхион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гљен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исулф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ровањ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ешки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еталим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ботулиза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оксин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ифтериј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ровањ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едикаментим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Метаболички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поремећаји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рем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рфир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милоидоз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берибер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ијабете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еллиту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лкохолиза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хипотиреоидиза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бенигн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алигн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Компрес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иску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херн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пондилофи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стеофи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рауматс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мпрес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Секција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рауматс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ек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штри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едмето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штри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штани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фрагменто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елом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с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4" descr="HPIM0215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5" descr="HPIM0218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С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иполар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онополар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5" descr="HPIM0234.JPG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PIM0240"/>
          <p:cNvPicPr/>
          <p:nvPr/>
        </p:nvPicPr>
        <p:blipFill>
          <a:blip r:embed="rId2"/>
          <a:stretch/>
        </p:blipFill>
        <p:spPr>
          <a:xfrm>
            <a:off x="4800600" y="2362320"/>
            <a:ext cx="386244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араметр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раметр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лектростимулац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це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нуел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ст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рјентациона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жина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јања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пулса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узе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пена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риферне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узет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јтежа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---------( 500-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/ 2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што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акша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----(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/ 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ака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------------( 50-12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/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ишић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---------------( 0,1- 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/ 2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  500/2000,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оцена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  0-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  250/500, 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оцена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  2+ -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идрокинези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Повољ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деј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вежб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во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засн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углав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следећ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MS Mincho"/>
              </a:rPr>
              <a:t>принцип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Архимедо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зако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теж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т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оноли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коли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теж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њи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истисну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теч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ти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дело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гравит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ч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миши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ч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сна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недовољ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извођ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покр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су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л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вежб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во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темпера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спа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миши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попр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циркул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слаб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миши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ве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ефикас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извође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покр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позитив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психолош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MS Mincho"/>
              </a:rPr>
              <a:t>дело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Дозирано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оптерећење-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форд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вежб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петитив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ксиму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еђ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дељ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р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дељ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x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тереће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½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Вежб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о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Д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Лорм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петитив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ксиму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еђ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дељ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р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дељ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½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x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тереће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Клиничка сл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виси 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рсте нервних влак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1. лезија сензитивног неу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. лезија моторног неу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3. лезија вегетативног неу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ивоа ле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гментна- радикуларна ле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. периферна ле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93760" y="8748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ЛЕЗИЈЕ СЕНЗИТИВНИХ ВЛАК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утрнулост, пецкање, струјање, мравињ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хипоестезија, анестезија, аналге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иритативне лезије су праћене бо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ЛЕЗИЈА МОТОРНОГ НЕУР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реза / парал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атрофија / хипотроф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атонија / хипото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арефлексија / хипорефлек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присутна је електродегенеративна реакција и електромиографски налаз денерв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 ЗАВИСНОСТИ ОД НИВОА ЛЕ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егментна  радикуларна ле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имптоми и клинички знаци оштећења радикса израз су поремећене функције сензитивно и/или моторног корена одговарајућег спиналног нер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Периферна нервна ле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лази до оштећења сензибилитета и моторике   по периферном типу (у инервационом подручју оштећеног нерв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ГРАДАЦИЈЕ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СТЕПЕН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ОШТЕЋЕЊ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НЕР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урапракс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уз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р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ривреме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оремећа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функциј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живц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наста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дејством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трау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ксонотмези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ки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со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тоанатомс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овред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аксон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њихових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мијелинских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кошуљиц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ем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вано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војниц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булу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оштеће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сонотме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мат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лезијом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живц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континуитету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уротмези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отпу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рекид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нерв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јтеж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ем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тал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гмен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длеж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лерово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генераци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Периферна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нервна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лезија- Г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Оштећење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аксиларног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живц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елтоидеус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немогућношћ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елеваци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одизањ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рук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рамен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Оштећење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нервус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мускулокутанеус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бицеп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брах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немогућношћ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флекси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егибањ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упинаци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звртањ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одлак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Оштећење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радијалног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живц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екстензор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опружач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одлактиц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ак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стиј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немогућношћ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екстензи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опружањ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одлак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ак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стиј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а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линичк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лик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1600" spc="-1" strike="noStrike">
                <a:solidFill>
                  <a:srgbClr val="000000"/>
                </a:solidFill>
                <a:latin typeface="Calibri"/>
              </a:rPr>
              <a:t>висеће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1600" spc="-1" strike="noStrike">
                <a:solidFill>
                  <a:srgbClr val="000000"/>
                </a:solidFill>
                <a:latin typeface="Calibri"/>
              </a:rPr>
              <a:t>шаке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Оштећење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нервус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медијанус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флексор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егибач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ак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в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с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немогућношћ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флекси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егибањ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ак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в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с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а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линичк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лик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1600" spc="-1" strike="noStrike">
                <a:solidFill>
                  <a:srgbClr val="000000"/>
                </a:solidFill>
                <a:latin typeface="Calibri"/>
              </a:rPr>
              <a:t>шаке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1600" spc="-1" strike="noStrike">
                <a:solidFill>
                  <a:srgbClr val="000000"/>
                </a:solidFill>
                <a:latin typeface="Calibri"/>
              </a:rPr>
              <a:t>проповедника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Оштећење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улнарног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живц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итних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ак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егибач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малог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алог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с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немогућношћ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флекси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егибањ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омалог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алог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с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одвођењ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ивођењ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прстиј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дај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клиничк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лик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1800" spc="-1" strike="noStrike">
                <a:solidFill>
                  <a:srgbClr val="000000"/>
                </a:solidFill>
                <a:latin typeface="Calibri"/>
              </a:rPr>
              <a:t>канџасте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Calibri"/>
              </a:rPr>
              <a:t>шаке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35:23Z</dcterms:created>
  <dc:creator>Mark Ricard</dc:creator>
  <dc:description/>
  <dc:language>en-US</dc:language>
  <cp:lastModifiedBy>Vesna</cp:lastModifiedBy>
  <dcterms:modified xsi:type="dcterms:W3CDTF">2024-01-20T16:01:39Z</dcterms:modified>
  <cp:revision>66</cp:revision>
  <dc:subject/>
  <dc:title>Introduction To Manual Muscle Testing</dc:title>
</cp:coreProperties>
</file>